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29C-AB7F-4CE3-AAA8-8A90FC79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30B-9632-4BBA-A752-85CC1DF7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F49-A117-498B-8883-CB393994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D9C-5F1E-41D0-87D4-D9E33769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D09-05C8-4A2C-837E-8A10D828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5CF-937D-42EC-84B7-F66E4CDD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09C-4043-4F3B-A3B3-1A383107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59F-486A-46D4-BE9E-FE9B3928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B0D-AE99-49BE-BCCB-D372EB88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26B-590F-4DCE-994B-7097391D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D09-0D08-4819-9281-F87E1A37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CA5-8DA1-4384-9BFF-9598B0BB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1DF0-BFF6-4FE0-9B68-B9428847B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ame God who helped Joseph can give us _______ when we need i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ame God who helped Joseph can give u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ISDO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when we need i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________ had a dream, and wanted to know what it mean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HARAO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had a dream, and wanted to know what it mean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upbearer told Pharao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__________ cou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 dream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upbearer told Pharao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JOSEP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u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 dream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raoh had a dream about cows and another dream about _________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raoh had a dre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ut cow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dream about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OR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ream was a warning from _______ about a coming famin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ream was a warning from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GO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bout a coming famin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8T12:28:28Z</dcterms:created>
  <dc:creator>Sherilyn Dawson</dc:creator>
  <dc:description/>
  <dc:language>en-US</dc:language>
  <cp:lastModifiedBy>Sherilyn Dawson</cp:lastModifiedBy>
  <dcterms:modified xsi:type="dcterms:W3CDTF">2015-08-24T16:52:24Z</dcterms:modified>
  <cp:revision>4</cp:revision>
  <dc:subject/>
  <dc:title>PowerPoint Presentation</dc:title>
</cp:coreProperties>
</file>